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44F-BA2C-4E97-B4FF-3CDDA328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275-245D-4B10-B993-21943635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A659D-C86D-42D9-A2EA-FE247CA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AC6B1-9B95-40BF-A72A-61B567D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456C9-C64B-4ACF-A79B-2C624239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53775-222C-45EA-B0BB-22E33E2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D5054-A560-4879-B69D-EFCB1FF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F7935-296B-4291-8677-A752B71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BA260-6917-4DB8-B32B-48218AF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8FC98-B39D-4544-B144-20AB2B68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74241-505A-4ADE-9071-50B33CE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E6BA7-8B7D-415E-AAED-F49F5DE1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48E-04C9-48B0-92F8-3639C237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644AE-1221-4965-878C-E86B381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AA63C-696E-4BB8-AD76-F8BE28A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0C474-1D9E-4919-8529-4E577B2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93D8F-9553-49D1-A151-006127FA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4DCBF-55C1-4C18-88B8-8D2CB8E5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BF965-BB3B-4E0B-93DD-86C224C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D2F0E-B8FE-483A-8AB0-E6C7FF3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5774F-6892-4372-BF1C-842B09D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D9152-75A7-4F18-8746-65C11891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E5ADB-F998-4ECB-9175-CDFE8B23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0A4-CB78-436C-9572-1624367B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17A52-0E6A-4023-B83C-E427B358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74645F-FBDD-4A1B-B858-4C9922D6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138C3A-7EFF-4785-B779-9417F68C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B020DE-A79F-4F7F-BB14-8E68AF0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24AB44-B563-404C-86E2-2DBABF60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6F4469-A0FA-4885-A273-B226CAF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641ADA-56AD-405E-8C88-3FBEE612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2E84C4-95C0-4431-9E69-0E3EF90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4535B6-60E4-4558-915B-37EC65A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D4267E-FAEC-4483-8C52-B96A4F94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C54D9D-59B8-4049-BC56-7E115EA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66836E-4440-477A-97C7-70BD7F22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B7D902-6AFE-4B07-AA1A-8FF563AF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80FF6-936C-4159-8EF9-EBBD2D50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52CC2-D030-4289-AB62-B56F2B0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DC686-7D5A-46BE-9651-5DE56FE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EC7E5-4A0B-4A6B-A7A6-AC23176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2635E-73D6-410F-AA22-E22F7063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B105F-4C81-45F7-ADE0-7FE05F0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F8C31-FF08-4389-96CF-2AF72E6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48D29-D9CC-4929-B042-257DAB9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37003-7DF4-4E04-8A5A-DE38E6B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C1088-33B2-436B-8A1D-397EE96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8AA2F-3DD5-4F1D-B1B9-59532983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6B99B-893C-4A51-A9C3-0CE8F48E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338B2E-69FE-45E0-8EF4-B176088D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35E283-E981-4C5F-9480-77A1C86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89995F-BF95-4794-A69C-B19EA90E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8CEC2B-4E19-4D7E-9611-3FEF87C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8B69B5-8EBD-4669-9B59-0E008DC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B76FA6-84F6-461F-BDA8-C1FC7E1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4A29B0-C2DB-4879-8EC8-59DA004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0E1614-8101-4D55-AC6D-285A8DC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9D3F67-68B3-4F7A-9B04-8EFE9C60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37C23E-D39A-4F00-A55E-D555EF94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0286B0-265C-4F5A-9146-438522F2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35D05C-D5AF-422A-8E47-1591BD2B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F0D8E-8387-4AAC-9220-0DD6E10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6AE15-5C34-4EC9-B230-3015350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14F27-EA27-4E58-BACD-3FC9C99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F9E43-8603-41E6-A2EA-5D3F1E5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9EDA6-A331-4192-A92E-2B9EF02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FCDDE-ABE5-4A93-B5EF-6CEBCDB9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5787B-BC5A-4F93-9084-CBCAF1B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2C784-444D-49F5-87A9-6A2A18C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697B0-DD45-48F0-A04C-AE1ED95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40C41-0ACA-46A7-81B2-567EA1C7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5DE88-19DE-42AF-AA11-CAC3A180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FB8FA-803B-4048-BE47-19C88B28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82F9F-B907-4A8C-B96A-4A639711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6CC5A-96C9-4F30-B8EC-1AF2D4A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473C9-BF1B-4CD3-B24E-DAC01F8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0AADA-596D-4C09-9A20-FC53359D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EC366-073B-4CDA-A23A-DF40C62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F8A35-9B2F-43F9-B2F1-99B6806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B9098-0B76-4055-B905-86ED5B9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6C616-1C6A-4DF7-A45A-CEE33ED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C04B9-2584-4F3D-AFDB-EC89B9A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AAF12-7C2A-4DB3-B963-35A6F1D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0FF3A-F545-4851-B048-5C8D68F1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D1C7E-A0D4-4DAF-AB8E-D333FF1B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AF5AB-1D33-4D12-B9EF-47634003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5533D-0B3D-4D5A-9EA8-FB3765A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A22F1-2B08-4BF6-82DB-358D1E0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4F1B7-CBDD-4072-8FD0-890DDAE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F15E0-43F3-41BB-975E-043D108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A48CC-A7C0-46F6-AF98-8E2ADE9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A927B-1511-4C65-A604-B13260B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A56-D652-42B9-BA86-7629FAA6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06FAF-9402-4424-937C-5DC898F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D7BB5-4DE6-443C-BF25-E2E9992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3C130-D38A-4B6D-8F9E-5C5E0F1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CA68F-D92E-45FD-B318-CF26936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DB63E-37DE-4E8B-8397-F0255A41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6B98E-EC40-4CF1-8CE7-601497B7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4820A-48ED-4D46-82C1-B1B84287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26997-0365-4ECD-9704-49B7410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50BB5-7EB6-4B6C-AFCE-E7577D03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E5AE4-EDFA-4540-9CB6-FC82E8B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A12D8-702C-43C5-B8A2-78ADB03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3477D-16FB-40A5-BFE2-6D3688F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9C152-43E2-45F3-A2BC-3DC45817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33520-0704-4F0C-9571-DD48A70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3304F-92A1-4C52-91B0-885E24F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E66A9-0D56-4AF7-A478-1B15E99B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68621-2FB3-4F7B-91B5-CD415B9E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39FF1-EDD5-4CDE-BA39-95698D15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34C53-3985-49AD-B684-2ED97543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33B11-7D2C-4557-9987-18FD3C5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D2A80-3D17-4B9B-9DD3-489C8DC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0D18F-408C-4E25-BE93-25E62CC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C732B-645A-4F1C-AA9D-710B700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AC758-AB36-40B1-B0DD-1B1B2F3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CDDAF-6CCE-42C9-85BB-EABAE84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E0EEC-D61E-472C-AE0C-06CCA69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911F6-C454-4AFD-A1EF-FDEBA72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8449F-B8B2-4BB8-AC67-678FE43C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A95BE-8875-4C92-B47A-98385EAB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2F304-A619-47F3-A67A-A1E70B79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24D08-6AFF-4C35-8A54-AECF500B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F1F6B-AC4C-48C3-A240-15224E44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7F086-CD5F-48ED-9B61-F6EC3C9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9997D-8A9D-4C84-B8A2-A07E827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507D5-7457-4BC4-8831-D8CE749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523B2-BD33-41EC-9E0A-E8B48D0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5C865-21A4-4DE4-91DB-C9F848B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D6B17-82ED-4196-8E5E-EA9B201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3E652-24C3-4C84-A5DE-82C2CC1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83F86-399E-47F9-824B-E226F3A8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AF8CC-395C-417E-A369-8F41F5EC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E19EA-30A4-4AD0-A2D4-8A72325D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F50D9-89ED-4E3B-8602-0023A40B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6D3A6-3AB3-4AA9-8CC1-185F7E61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41AC5-4561-4ECE-B683-C884899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42408-B72B-4BFD-BC92-C8A58803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BEF5C-D13B-45AC-B1D3-DEB3CDF9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5AB24-EAD8-4E48-B81E-2ECDAC6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01514-C0E9-4B84-BEAC-87D6998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29263-3B5F-4342-A0A5-FCBA9E30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D6C70-D9FD-4A0B-957F-743703F1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2EE9E-5D6A-4985-B129-63D57C88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1B9C9-ACAA-46CB-A404-22E8DDBC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9C493-F52B-4DA2-8838-0BD5A436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34C9F-9B88-4B3A-B333-0B60F94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7EC93-A364-41D2-8C94-CB52914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0406D-72D8-46C5-8800-3F7D2D16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78C88-CFE8-4A12-8E2C-48DB8F6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C76-F029-4242-9CA5-9BC08B8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2864A-6C79-4388-B3A7-83752F5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0893E-3501-42CA-8D9D-A9E1352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0C10D-CB2B-4EA9-B758-FB70C50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6C5F7-47AA-4188-9C00-C3CAD48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2D757-6CEC-47F3-892F-AD61E54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8ADD2-CDD3-4EBE-9CDA-C9650A06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4F390-F0CA-4E74-B355-369BF1AC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C4860-ADC7-4871-969E-582EC50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CA6D6-007C-476C-9502-5FEFFDC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EE774-858D-433A-BF76-A96433F0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22F-F975-4088-A08E-1107DF05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8CED2-D337-4674-A443-B9617EB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0765F-9EAB-4066-9980-B244BBA9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E63BF-3C54-4ABD-A619-35142FC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D2197-928D-42D9-A27A-9FA3A66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E0315-A71D-4538-8CA0-1688F3C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E5737-B806-463E-8B5B-2EAD632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DD712-78CD-4707-B4D4-9A7C3250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EDD19-DD62-44C3-9DB4-2A6AE054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CEAEB-CCC2-4481-8CBC-12B527FA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4FE-C45F-470A-B8B2-1A3C8997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02A-6231-47FD-930C-DB4F8533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DD5B6-6ED8-4576-B06A-EFB25423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1334B-2276-40F2-A26C-7C87F7A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8307A-0117-4DF2-9B60-14EAE6AE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ACE6C-98FE-40B0-8687-58CF481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F1B0E0-1F92-4C25-AF48-9DCE56B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754C5-AF08-4700-BFCA-E73AB50E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CDC7A-387D-445E-80F5-E726B5E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8ED96-2C4D-452F-8937-3FB863D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F01EC3-74AA-49E6-9883-2AE634F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D10-7324-4A23-9757-44AC39C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8B28C3-06EA-42BA-AE65-D5E26085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43A4F-029C-440B-929E-5B7FB9D4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5C089-E0EF-484D-8F50-6C5CC80D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4ECF4F-19D9-4308-A566-EC850059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413A3-D8D4-4450-AD94-F8AF9B5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5E12C-1F67-4063-B465-5277C18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1B675-3B6E-48D6-8DA6-040AB7E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D1116-9CF2-4DF7-ABEC-3922FACB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CF472-B882-492B-919A-785FB1C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BE2CD-9E97-475E-8AE0-30995D0E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40E-8539-45E0-8FCB-752B3871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83D2A-9CE6-47AE-BBEF-6C6B6AB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A8AFB-D25B-439C-A808-8B20E50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57AF58-E719-4C07-916D-95F3A45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C3A72-DBF4-4565-B3B6-8E0D765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EA63D-D1B1-4B6D-898A-7FA8D36F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1309FD-C72A-43F8-9849-01D18AC5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EBD26-40A7-40D8-BA62-A42E362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AA79B-3D62-48EE-8997-F646E3D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3F5DF-529C-4C55-B7B6-BAF6CDC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0BA217-CB6E-4634-91C9-6B7BDE32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102-DA88-482E-B5AD-1C0B7B7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58CB6-C0D3-4CFF-959C-686E42A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D064B-422E-4C52-9319-2D12583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9844C-0FC2-4360-946E-746E0920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423002-67B3-493C-9DF7-E266D5E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5296E9-CD6A-4555-B173-1664A5B5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7F398-7392-4922-84F3-4D882D48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91D745-8461-4EA7-AF4E-FAB3B709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42CA7-6F8A-4C2D-9487-E9745F2F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5D76F-9134-4C52-B9A5-34C1D489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007F3-403A-4B7B-8A08-B51E773F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298BB-EB49-4D8C-BEC4-BB4ECEA36E6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EE0AB-6FCD-4E5F-86F7-0FFC6DCEC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F1B34-95B2-405D-A391-BAA5BD7890CE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44AF6-5BC6-4E50-861E-1D482D0D1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6139D-9382-459D-AC6D-771A7127933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D7FE3-8E20-4FDF-A1DD-3252861FE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AFD1F-1535-43F2-9D18-5E0A8E62AFAC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38F80-B179-4A40-98A8-1973DF19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3277-9916-4762-871D-DE724AC6130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A461B-9830-4CA5-BCA1-2B15DA6BB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A3A1-8D0D-4964-9E13-8A242964954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32AAD-C7C0-47B5-AF43-AA06423D5E4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40553-F2CE-44B9-B93B-29BB34883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22B6D-2D23-4B4F-A4B2-2FBBB3FE8EE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3DF0F-11B0-4A6C-8DA9-477DBFDFF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C048E-6A95-4E8E-B155-D74FA0879C13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D69E9-9ED0-4ADA-93B6-B3802F6AB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2D89B-46C5-4775-8683-961A2892DF6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3DA24-78CE-49F2-B171-9A98820B5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1D685-D248-426B-80E1-40683D7B67F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9B1F1-3892-4C07-B8ED-06F96EEED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D30CE-1159-48D2-A70D-A41F86CECFA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8D793-6AA7-4611-AB4E-574DBDFB19E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6D60A-4650-4704-92D5-6686A54A9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B5EB-5302-4D4A-A663-9F411643D1E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60E9B-B1A6-4843-8B0E-357CF917F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21154-0FCA-41E8-8477-34A507C4E3A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051DB-1E7A-4229-B6D2-F93B681B3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233D4-EDFC-48D3-A959-79F7AE29851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E51E6-7CB6-4CC4-B22A-DE6A3E67E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24EAB-D4B4-479C-A5AE-F5347D23B7E1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64168-18FD-4BC5-8388-96B801CE4EDE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6C3DC-D408-44F1-944E-07C4693AB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695B4-3935-4209-AD6B-9D1104F9B9C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10888-DF06-42CA-BF7C-90D247AEB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F2749-0A1E-467B-9967-E0348C4920A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F0886-BF74-4069-8F22-52134D270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A83AB-F20A-4E5D-997A-9E37B337102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C8DB8-544B-4040-B72C-2CBDBE382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nville.k12.pa.u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Using the DMS Library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Presented by LibraryRunner (aka Mrs. Brame)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2" name="Picture 4" descr="meezAnimatedBodyshot300x400.gif"/>
          <p:cNvPicPr/>
          <p:nvPr/>
        </p:nvPicPr>
        <p:blipFill>
          <a:blip r:embed="rId1"/>
          <a:stretch/>
        </p:blipFill>
        <p:spPr>
          <a:xfrm>
            <a:off x="1143000" y="477720"/>
            <a:ext cx="261288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 Virtual Welcome!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                    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ello and thank you fo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          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tting me visit you virtually today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day we will discuss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ibrary Expectation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dvisory Visi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New DMS Library Websi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5" name="Picture 3" descr="meezHeadshot100x100.jpg"/>
          <p:cNvPicPr/>
          <p:nvPr/>
        </p:nvPicPr>
        <p:blipFill>
          <a:blip r:embed="rId1"/>
          <a:stretch/>
        </p:blipFill>
        <p:spPr>
          <a:xfrm>
            <a:off x="5553000" y="174312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ibrary Expectation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same expectations throughout the school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Kin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Respectfu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Responsib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Saf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do these look like in the library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dvisory Visit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ame expectations as last yea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isten to morning announcemen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ave a signed agend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gn into the libr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ork quietly, respecting others in the libr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gn out when leav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 New DMS Library Websit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s year, the DMS Library Website has a new, sassy look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get to the DMS Library Website, follow these step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anville Area School District Webp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www.danville.k12.pa.u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Under Schools, select Danville Middle Schoo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nce on the Danville Middle School Webpage, select DMS Library in the menu on the left side of the page. 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t’s take a look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2" name="Picture 3" descr="meezHeadshot100x100.jpg"/>
          <p:cNvPicPr/>
          <p:nvPr/>
        </p:nvPicPr>
        <p:blipFill>
          <a:blip r:embed="rId2"/>
          <a:stretch/>
        </p:blipFill>
        <p:spPr>
          <a:xfrm>
            <a:off x="6546960" y="462132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57:38Z</dcterms:created>
  <dc:creator>PA Department of Education Classrooms for the Future</dc:creator>
  <dc:description/>
  <cp:keywords/>
  <dc:language>en-US</dc:language>
  <cp:lastModifiedBy>PA Department of Education Classrooms for the Future</cp:lastModifiedBy>
  <dcterms:modified xsi:type="dcterms:W3CDTF">2009-09-10T00:32:04Z</dcterms:modified>
  <cp:revision>3</cp:revision>
  <dc:subject/>
  <dc:title>PowerPoint Presentation  -  Using the DMS Library</dc:title>
</cp:coreProperties>
</file>